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FCD6-E02B-436F-B72F-F117BD0FF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76E4-1D91-4066-885C-2EAEB5D44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FA70-EAED-4911-BD07-738D87A58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DC7E-741A-448B-B64A-6F53A18A4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E4FB-8A12-4E03-B83D-FA7E00053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5BD3-91FB-4744-A9A2-62C47E99A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5959-5C18-4223-BB98-28484E5D8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E861-4AA3-4386-A804-1D0664727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78D4-87BF-4E6C-B22A-F4F612554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A4F2-BAFF-441A-B539-B8BDD304D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112E-95D5-479C-B103-0181358D6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9430-24E5-40E9-9D8F-27771FAC3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9C68F-7678-4B1F-9474-6D3ADD988C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</a:t>
            </a: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 GLO</a:t>
            </a: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BALIZZAZI</a:t>
            </a: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692360" y="1630440"/>
            <a:ext cx="475128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492360" y="1700280"/>
            <a:ext cx="3456000" cy="10792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Monotype Corsiva"/>
              </a:rPr>
              <a:t>GLOBALIZZ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rot="504000">
            <a:off x="0" y="475920"/>
            <a:ext cx="3708360" cy="1511280"/>
          </a:xfrm>
          <a:prstGeom prst="rightArrow">
            <a:avLst>
              <a:gd name="adj1" fmla="val 50000"/>
              <a:gd name="adj2" fmla="val 6134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MIGLIORAMENO MEZZI DI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RASPOR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rot="20735400">
            <a:off x="0" y="2565000"/>
            <a:ext cx="3780000" cy="1441440"/>
          </a:xfrm>
          <a:prstGeom prst="rightArrow">
            <a:avLst>
              <a:gd name="adj1" fmla="val 50000"/>
              <a:gd name="adj2" fmla="val 655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MIGLIORAMENO DEI MEZZI 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OMUNIC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020000" y="981000"/>
            <a:ext cx="1942920" cy="10080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DUZIO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04000" y="2852640"/>
            <a:ext cx="2160720" cy="72072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TILI DI V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IMI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940360" y="3933720"/>
            <a:ext cx="2808360" cy="93528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IBE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IRCOL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I PERS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916360" y="3789360"/>
            <a:ext cx="2519280" cy="93672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B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RCOL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LE MER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95280" y="2924280"/>
            <a:ext cx="289080" cy="93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580000" y="2565360"/>
            <a:ext cx="86364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732720" y="2492280"/>
            <a:ext cx="36036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6443640" y="1483920"/>
            <a:ext cx="576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300720" y="5418000"/>
            <a:ext cx="2139840" cy="1440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MIGR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TTA’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CULTUR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308720" y="4869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13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" dur="2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" dur="2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07T09:39:13Z</dcterms:created>
  <dc:creator>studente</dc:creator>
  <dc:description/>
  <dc:language>en-US</dc:language>
  <cp:lastModifiedBy>studente</cp:lastModifiedBy>
  <dcterms:modified xsi:type="dcterms:W3CDTF">2016-11-21T08:54:51Z</dcterms:modified>
  <cp:revision>6</cp:revision>
  <dc:subject/>
  <dc:title>Diapositiva 1</dc:title>
</cp:coreProperties>
</file>